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AEE-EFDF-412D-9A19-C02D3E55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529-3C95-436C-B9A7-A62DF786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83B-FC0A-44EA-AA35-CEBF8A0E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6F7-BA70-438C-95EA-32D9AD42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0F4-2968-4F3E-A40F-5492776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F69-7FF1-47C4-8CEC-C9ED9898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10F-6854-4F85-ABC9-CE7D33AA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4A7-96C4-45A6-9B60-F4FF79B2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5D6-D0D7-40ED-B5BC-72C4A965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759-B7BF-469C-9603-A3510354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5FB-5E6F-47A4-9A29-56F3940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493-364C-4023-82DB-C748BDC8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4FD-DFBF-448B-A85D-103C8538E07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4/1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773360"/>
            <a:ext cx="813744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80"/>
                </a:solidFill>
                <a:latin typeface="Minion"/>
                <a:ea typeface="文鼎中黑"/>
              </a:rPr>
              <a:t>Systemtest Europe</a:t>
            </a:r>
            <a:br>
              <a:rPr sz="4400"/>
            </a:br>
            <a:r>
              <a:rPr b="1" lang="zh-TW" sz="3600" spc="-1" strike="noStrike">
                <a:solidFill>
                  <a:srgbClr val="800080"/>
                </a:solidFill>
                <a:latin typeface="Minion"/>
                <a:ea typeface="文鼎中黑"/>
              </a:rPr>
              <a:t>Organizational Set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013360"/>
            <a:ext cx="3889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Minion"/>
                <a:ea typeface="文鼎中黑"/>
              </a:rPr>
              <a:t>Wacker/Fri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BMG PH RD 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Minion"/>
                <a:ea typeface="文鼎中黑"/>
              </a:rPr>
              <a:t>12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5560" y="57150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987280" y="1413000"/>
            <a:ext cx="3240" cy="430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198900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62864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90792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56536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43700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500280"/>
            <a:ext cx="1076400" cy="7304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373720"/>
            <a:ext cx="1076400" cy="730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,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1628640"/>
            <a:ext cx="1076400" cy="730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2924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38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7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5800" y="571356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637240" y="40640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6600" y="290196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3720" y="3508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16880" y="40766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4160" y="1325520"/>
            <a:ext cx="0" cy="39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2003400"/>
            <a:ext cx="39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80320" y="28638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80320" y="3483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83560" y="408636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3720" y="2374920"/>
            <a:ext cx="1384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65480" y="2534760"/>
            <a:ext cx="156600" cy="2158920"/>
            <a:chOff x="2265480" y="2534760"/>
            <a:chExt cx="156600" cy="2158920"/>
          </a:xfrm>
        </p:grpSpPr>
        <p:sp>
          <p:nvSpPr>
            <p:cNvPr id="83" name=""/>
            <p:cNvSpPr/>
            <p:nvPr/>
          </p:nvSpPr>
          <p:spPr>
            <a:xfrm flipV="1">
              <a:off x="2266560" y="253476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7720" y="28857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74480" y="34923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5480" y="409248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74480" y="4692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516560" y="2538000"/>
            <a:ext cx="156600" cy="2158920"/>
            <a:chOff x="4516560" y="2538000"/>
            <a:chExt cx="156600" cy="2158920"/>
          </a:xfrm>
        </p:grpSpPr>
        <p:sp>
          <p:nvSpPr>
            <p:cNvPr id="89" name=""/>
            <p:cNvSpPr/>
            <p:nvPr/>
          </p:nvSpPr>
          <p:spPr>
            <a:xfrm flipV="1">
              <a:off x="4517640" y="253800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8800" y="28890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5560" y="349560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16560" y="4095720"/>
              <a:ext cx="14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25560" y="469584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95520" y="2541240"/>
            <a:ext cx="157320" cy="2158920"/>
            <a:chOff x="3395520" y="2541240"/>
            <a:chExt cx="157320" cy="2158920"/>
          </a:xfrm>
        </p:grpSpPr>
        <p:sp>
          <p:nvSpPr>
            <p:cNvPr id="95" name=""/>
            <p:cNvSpPr/>
            <p:nvPr/>
          </p:nvSpPr>
          <p:spPr>
            <a:xfrm flipV="1">
              <a:off x="3396960" y="2541240"/>
              <a:ext cx="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8120" y="28922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04880" y="349884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5520" y="4098960"/>
              <a:ext cx="144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04880" y="4699080"/>
              <a:ext cx="144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634000" y="2228760"/>
            <a:ext cx="0" cy="312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6360" y="142920"/>
            <a:ext cx="8359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H RD STE System Test Organization </a:t>
            </a:r>
            <a:br>
              <a:rPr sz="2400"/>
            </a:br>
            <a:r>
              <a:rPr b="1" lang="en-US" sz="16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rganizational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520" y="1571760"/>
            <a:ext cx="1076400" cy="7318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STE OM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</a:rPr>
              <a:t>Opera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Michael Kappe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763560"/>
            <a:ext cx="1604880" cy="58896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Dr. Klaus Wa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6520" y="32130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rko Virk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7440" y="2627280"/>
            <a:ext cx="9320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Sylvia Schellberg-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300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Holger Abrat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87520" y="263376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Off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r. Gennaro Evangelis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62760" y="1968480"/>
            <a:ext cx="941400" cy="5176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ecr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trin Thiels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7600" y="320040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Erik 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8240" y="26128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Leonhard Waig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2097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Zbyszek Jarzab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0280" y="3816360"/>
            <a:ext cx="90360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arl-Heinz Sad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32194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an Kiwi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263376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latform 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ee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3480" y="38131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Ralf Wied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024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Dirk Fä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4160" y="44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Oliver Wage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 SW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Oliver Friede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986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-A. Gabr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076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MO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Mun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Walter Foll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0400" y="5578560"/>
            <a:ext cx="1008000" cy="5652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OA-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Operator Appro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Jens Schar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Softw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Kamp-Lintf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Zieg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2400" y="5578560"/>
            <a:ext cx="1008000" cy="54108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SW-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Wrocla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Thomas Rö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824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U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Jochen Bi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5578560"/>
            <a:ext cx="1063440" cy="55404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Aalb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Kim Sor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5000" y="529128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500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69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84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5772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9736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44640" y="529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4600" y="1514520"/>
            <a:ext cx="1076040" cy="730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Director of Project Lead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Claus Frie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7160" y="440532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Andreas Sch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5440" y="3811680"/>
            <a:ext cx="90360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ichael Schmitz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4560" y="2533680"/>
            <a:ext cx="335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28926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9480" y="34988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781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&amp;D Board Me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1800" y="1054080"/>
            <a:ext cx="108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L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43760" y="1330200"/>
            <a:ext cx="108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760" y="6238800"/>
            <a:ext cx="39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- - - </a:t>
            </a:r>
            <a:r>
              <a:rPr b="0" i="1" lang="en-US" sz="800" spc="-1" strike="noStrike">
                <a:solidFill>
                  <a:srgbClr val="3a0e66"/>
                </a:solidFill>
                <a:latin typeface="Arial"/>
                <a:ea typeface="文鼎中黑"/>
              </a:rPr>
              <a:t>only functional reporting, disciplinary assignment to local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56480" y="808200"/>
            <a:ext cx="231840" cy="1490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5040" y="1368360"/>
            <a:ext cx="231840" cy="149400"/>
          </a:xfrm>
          <a:prstGeom prst="rect">
            <a:avLst/>
          </a:prstGeom>
          <a:solidFill>
            <a:srgbClr val="e9e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5040" y="1092240"/>
            <a:ext cx="231840" cy="1490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37360" y="5291280"/>
            <a:ext cx="223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04000" y="320976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ascal Reven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2614680"/>
            <a:ext cx="903240" cy="51444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Peter Hennig (ex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18320" y="285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721560" y="254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49840" y="2533680"/>
            <a:ext cx="106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707160" y="2533680"/>
            <a:ext cx="2057400" cy="1782720"/>
            <a:chOff x="6707160" y="2533680"/>
            <a:chExt cx="2057400" cy="1782720"/>
          </a:xfrm>
        </p:grpSpPr>
        <p:sp>
          <p:nvSpPr>
            <p:cNvPr id="158" name=""/>
            <p:cNvSpPr/>
            <p:nvPr/>
          </p:nvSpPr>
          <p:spPr>
            <a:xfrm>
              <a:off x="7861320" y="320040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Steen H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61320" y="2604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Kim Ankera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6640" y="3801960"/>
              <a:ext cx="903240" cy="514440"/>
            </a:xfrm>
            <a:prstGeom prst="rect">
              <a:avLst/>
            </a:prstGeom>
            <a:solidFill>
              <a:srgbClr val="cc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STE 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Project L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800" spc="-1" strike="noStrike">
                  <a:solidFill>
                    <a:srgbClr val="002b5d"/>
                  </a:solidFill>
                  <a:latin typeface="Arial"/>
                </a:rPr>
                <a:t>Flemming Nygaard-Sig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775640" y="28526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778880" y="2541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7160" y="2533680"/>
              <a:ext cx="1062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5635800" y="25509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15080" y="34304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807000"/>
            <a:ext cx="903240" cy="514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STE 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</a:rPr>
              <a:t>Project Lea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2b5d"/>
                </a:solidFill>
                <a:latin typeface="Arial"/>
              </a:rPr>
              <a:t>Marco Schul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360" y="54936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880" y="23976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System Test 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732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179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ystem Test Project Lea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Responsibility for all product projects and results (cost, time, quality) and reporting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Drive and control the coordination, development and approvals of complete system test in all product projects from  M</a:t>
            </a:r>
            <a:r>
              <a:rPr b="1" lang="el-GR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α</a:t>
            </a: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to 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projects in terms of value, speed and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Interface of the complete system test process chain towards the overal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Optimization of the product development process in terms of duration, effort and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Lead of all project leaders in 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179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622440"/>
                <a:tab algn="l" pos="1079640"/>
                <a:tab algn="l" pos="152388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5320" y="18900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MOK &amp;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268280"/>
            <a:ext cx="744228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Modem KLf and M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 system test and support to 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 with network 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s,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6240" y="189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K &amp; SW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268280"/>
            <a:ext cx="7442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KLf and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operability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of PC-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ification of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93280" y="189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S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SW (Application test) W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 test in scrum t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Provide all innovative technologies, test setup and auto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inion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Support for operator acceptanc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69880" y="1890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268280"/>
            <a:ext cx="74422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 Management Operator Acceptance (M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 Approvals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site support for key 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 to G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64840" y="189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TE 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268280"/>
            <a:ext cx="744228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tion Management M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and decide about certification/conformity assessment/regulatory requirements strategy including related standardization in accordance with project requirement and ST line manag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 Invest process and strategy (including related maintenance costs, formerly GK) and provide proposals for decision for head of ST about investments according to project- and business- targ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contract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 specific NDA management with support of ST line manag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ive, define and release ST relevant processes in alignment with project </a:t>
            </a:r>
            <a:r>
              <a:rPr b="1" lang="en-GB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managemen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line management and other discipline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rce and competen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wackerk</cp:lastModifiedBy>
  <dcterms:modified xsi:type="dcterms:W3CDTF">2006-05-15T12:22:11Z</dcterms:modified>
  <cp:revision>129</cp:revision>
  <dc:subject/>
  <dc:title>PowerPoint 簡報</dc:title>
</cp:coreProperties>
</file>